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2.png" ContentType="image/png"/>
  <Override PartName="/ppt/media/image19.gif" ContentType="image/gif"/>
  <Override PartName="/ppt/media/image1.jpeg" ContentType="image/jpeg"/>
  <Override PartName="/ppt/media/image21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5B8B-35CC-47FA-9DBF-DF92E239E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37F7-4F82-4AEE-A8D0-47A47BB1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3D6A-81F9-4D88-BEDE-CAD2D9208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E42C-4DFB-4A5E-BFD0-92F6981EB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27C1-C517-45BC-BB45-4DA5C407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C633-0D99-48F9-BA53-942F0CF6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67A0-AD66-40BC-8284-BCA66CC5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5FD0-2379-4DB8-8FB4-DA5A186B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C9BE-06E4-4A57-8350-B94DCD83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7CC7-D367-4BDC-975F-255DDFC2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D26A-0EE8-4197-8E19-2AFDB2B4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A9A6-8FC1-43DE-8D53-B29A3469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B42B-43E5-46F0-8585-61A8D3C88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9640" y="1341360"/>
            <a:ext cx="7777440" cy="46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UST&amp;MUSTN'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omic Sans MS"/>
              </a:rPr>
              <a:t>You must brush your tee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69600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Comic Sans MS"/>
              </a:rPr>
              <a:t>I have an exam tomorrow,I must study</a:t>
            </a: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848360" cy="48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4360" y="1413000"/>
            <a:ext cx="7991280" cy="50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USTN'T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cover dir="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omic Sans MS"/>
              </a:rPr>
              <a:t>You mustn’t smoke indo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5832360" cy="427824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Comic Sans MS"/>
              </a:rPr>
              <a:t>You mustn’t drop litter a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61200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Comic Sans MS"/>
              </a:rPr>
              <a:t>You mustn’t speak in the libr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6912000" cy="532764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6769080" cy="51847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Comic Sans MS"/>
              </a:rPr>
              <a:t>You mustn’t cheat in the ex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omic Sans MS"/>
              </a:rPr>
              <a:t>You mustn’t sleep 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648000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omic Sans MS"/>
              </a:rPr>
              <a:t>You mustn’t be late for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7993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You mustn't argue with your fri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7561080" cy="49690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11280" y="907920"/>
            <a:ext cx="7920000" cy="518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UST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Comic Sans MS"/>
              </a:rPr>
              <a:t>You mustn’t play in the str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6842160" cy="472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mustn't watch tv so clo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7128000" cy="4295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 Glitter Gify.co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526716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KÜBRA GÜMÜŞSO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ŞULE NUR AKTA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ÜMMÜHAN YENİS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İMGE YÜK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ZÜBEYDE KOÇP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076720" y="3500280"/>
            <a:ext cx="1660680" cy="2102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076720" y="476280"/>
            <a:ext cx="1873440" cy="2367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372360" y="2349360"/>
            <a:ext cx="1944720" cy="19875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6751800" y="4149720"/>
            <a:ext cx="2041200" cy="2708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7035840" y="549360"/>
            <a:ext cx="160488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8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8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8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We must tidy our 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19272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4400" spc="-1" strike="noStrike">
                <a:solidFill>
                  <a:srgbClr val="000000"/>
                </a:solidFill>
                <a:latin typeface="Comic Sans MS"/>
              </a:rPr>
              <a:t>You must do your homework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42920" y="1643040"/>
            <a:ext cx="7274160" cy="4525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tr-TR" sz="4000" spc="-1" strike="noStrike">
                <a:solidFill>
                  <a:srgbClr val="000000"/>
                </a:solidFill>
                <a:latin typeface="Comic Sans MS"/>
              </a:rPr>
              <a:t>Children must keep their rooms tidy.</a:t>
            </a: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848360" cy="4952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4000" spc="-1" strike="noStrike">
                <a:solidFill>
                  <a:srgbClr val="000000"/>
                </a:solidFill>
                <a:latin typeface="Comic Sans MS"/>
              </a:rPr>
              <a:t>You are ill, you must see the doctor.</a:t>
            </a: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9640" y="1555920"/>
            <a:ext cx="8064720" cy="45162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4000" spc="-1" strike="noStrike">
                <a:solidFill>
                  <a:srgbClr val="000000"/>
                </a:solidFill>
                <a:latin typeface="Comic Sans MS"/>
              </a:rPr>
              <a:t>You must pay the bill before you leave the restaurant</a:t>
            </a: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paybill Tips on paying your bill at a restaurant."/>
          <p:cNvPicPr/>
          <p:nvPr/>
        </p:nvPicPr>
        <p:blipFill>
          <a:blip r:embed="rId1"/>
          <a:stretch/>
        </p:blipFill>
        <p:spPr>
          <a:xfrm>
            <a:off x="1042920" y="1628640"/>
            <a:ext cx="6769080" cy="4969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600" spc="-1" strike="noStrike">
                <a:solidFill>
                  <a:srgbClr val="000000"/>
                </a:solidFill>
                <a:latin typeface="Comic Sans MS"/>
              </a:rPr>
              <a:t>I am really tired.I must go home now</a:t>
            </a: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632720" cy="47530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4400" spc="-1" strike="noStrike">
                <a:solidFill>
                  <a:srgbClr val="000000"/>
                </a:solidFill>
                <a:latin typeface="Comic Sans MS"/>
              </a:rPr>
              <a:t>I must</a:t>
            </a:r>
            <a:r>
              <a:rPr b="1" lang="tr-TR" sz="4400" spc="-1" strike="noStrike">
                <a:solidFill>
                  <a:srgbClr val="000000"/>
                </a:solidFill>
                <a:latin typeface="Comic Sans MS"/>
              </a:rPr>
              <a:t> go on a di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7921800" cy="49687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4:21:56Z</dcterms:created>
  <dc:creator>aynet</dc:creator>
  <dc:description/>
  <dc:language>en-US</dc:language>
  <cp:lastModifiedBy>HCD</cp:lastModifiedBy>
  <dcterms:modified xsi:type="dcterms:W3CDTF">2011-04-03T13:05:43Z</dcterms:modified>
  <cp:revision>8</cp:revision>
  <dc:subject/>
  <dc:title>Slayt 1</dc:title>
</cp:coreProperties>
</file>